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F006-15A0-4826-9CD6-D7B1B87E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49E5-7999-46DF-8433-40A04006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2BE1-42F8-425C-85B3-BAF71215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1A02-B8E8-4105-96B1-9D035B20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CCA6-15ED-4050-B75C-A1B3CD8A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DCD-BFE8-4AA8-9D0F-ACF3231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C21-6F4D-4F1D-B6AD-241C98F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847F-5BD9-4B11-BB39-4EDA934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3CCF-F20E-4F2D-A55A-429A6BB4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846F-3E20-4A90-86B6-F686164C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1EA0-9CAC-4F31-B7F4-DE7EF1E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5D9F-05D0-4BBC-B3D6-6610A514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B255-EB57-419A-9EC9-684330F9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80A-3884-45D2-914B-1CE4581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2529-DD28-4595-9112-A94FB9AD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F693-7439-49F7-8311-380A9FED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1B13-6B86-4E48-B72F-871F2B5A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7924-76B5-47CE-B66E-D18172F3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8F06-450B-47A7-8740-5A045D3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A6F7-C822-4585-95D2-CC061013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58B7-6706-4FDE-9205-6E2F54DB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AFF9-7A71-4181-A5C6-A03FE27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C3FD-AD1B-44F5-9C18-60B45D5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A480-2D5A-4888-AA0E-493778D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ED35-B684-44B9-A755-DC39E3F5C4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929-F71B-4B2E-B822-D29ADECB6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30492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Garamond"/>
              </a:rPr>
              <a:t>Las comid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By: Rachel Hic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3152880" cy="4514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Garamond"/>
              </a:rPr>
              <a:t>Para el desayu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838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Garamond"/>
              </a:rPr>
              <a:t>Me gusta co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743200" cy="1832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El panque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2438280" cy="210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El h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91320" y="1523880"/>
            <a:ext cx="266688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360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El rosqu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295280" y="4267080"/>
            <a:ext cx="2667240" cy="20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6172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Rollos de can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410080" y="4173480"/>
            <a:ext cx="2819520" cy="2152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0080" y="6248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Zumo de manz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0"/>
            <a:ext cx="66294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Para El almuzer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2952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e gusta c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124440" cy="1764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3124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El Sándw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81280" y="1219320"/>
            <a:ext cx="2409840" cy="188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4800" y="3200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La fru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667240" cy="195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72200" y="3276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Piz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362320" y="3581280"/>
            <a:ext cx="1768320" cy="210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La parrilla con qu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638680" y="3809880"/>
            <a:ext cx="2011320" cy="221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6095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La lim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38088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Garamond"/>
              </a:rPr>
              <a:t>Para la Ce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19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Me gusta c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43864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3657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 hamburgu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2590560" cy="1955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81280" y="3962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l bist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48520" y="838080"/>
            <a:ext cx="2116080" cy="212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44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l po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2628720" cy="310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6019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Un ensal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505320" y="44956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5053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781680" y="3352680"/>
            <a:ext cx="99720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5720" y="5791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Un coca 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52480" y="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pos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3886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l pas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3352680" cy="2165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7180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Las gall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629400" y="380880"/>
            <a:ext cx="2206800" cy="2781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2940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Un he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828800" y="4191120"/>
            <a:ext cx="2647800" cy="223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6400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l pas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410080" y="40384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86400" y="6172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nsalada de fru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7:19Z</dcterms:created>
  <dc:creator>hickeyrac</dc:creator>
  <dc:description/>
  <dc:language>en-US</dc:language>
  <cp:lastModifiedBy>hickeyrac</cp:lastModifiedBy>
  <dcterms:modified xsi:type="dcterms:W3CDTF">2012-04-09T15:50:08Z</dcterms:modified>
  <cp:revision>8</cp:revision>
  <dc:subject/>
  <dc:title>Slide 1</dc:title>
</cp:coreProperties>
</file>